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816-48EC-4DC4-A2C8-9AB73785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A4E-8B28-4086-8241-EA8E091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CBA-1486-43FD-9526-7F8EF8F5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139-D183-4D67-BB40-6144AFF1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64E-B274-49F9-B4A3-E6750FB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141-38F4-491C-A4C6-04F4255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A02-105E-4B8E-ACE8-5E262CFB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44A-C2F2-4FE2-9C7F-C8440F72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970-6F54-4B39-BD5F-1952CC5E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CE5-353E-4684-8138-3ACD18F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F12-1128-4493-B09C-BCE909E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3D5-9B66-408A-9FA2-37168A3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3F0-4B92-49A2-B576-F57EFF00D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tanje trodimenzionalnih obje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ed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tačka,tačka] - ravan kroz tri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rava,prava] - ravan određena dvema prav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prava] - prava određena tačkom i prav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oligon] - prava određena poligo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ravan] – ravan paralelna datoj ravni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prava] – normalna ravan na datu pravu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vektor] – normalna ravan na dati vektor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] – tetraedar čija je stranica određena datim tač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poligon,visina] – prava piramida date visine čija je baza dati poli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,tačka,...] – piramida određena datim teme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kružnica,visina] – pravi konus sa datiom kružnicom kao osnovom i datom visin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tačka,poluprečnik] – konus čiji je centar osnove prva uneta tačka a vrh druga uneta ta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vektor,ugao] – konus sa vrhom u datoj tački, sa visinom u pravcu datog vektora i nagibom izvodnice za dati uga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,tačka] – prizma čija je donja baza dati poligon a data tačka je teme gornje ba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 visina] – prava prizma date visine čija je baza dati poli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tačka,tačka,...] – prizma čija su temena date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kružnica,visina] – pravi cilindar sa datom kružnicom kao osnovom i datom visi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tačka,tačka,poluprečnik] – cilindar čije su osnove sa centrom u datim tačkama i sa datim poluprečnik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] – tetraedar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,pravac] - tetraedar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] – kocka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,pravac] - kocka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t[telo,broj] – razvija mrežu datog tela u n del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, preseci, refleks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[tačka,tačka] – sfera sa centrom u prvoj tački koja prolazi kroz drug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 [tačka,poluprečnik] – sfera sa centrom u datoj tački i datim poluprečnik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sectpath [objekat, objekat] – linija kao presek dva uneta objek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flect [objekat,ravan] – simetrična slika datog objekta u odnosu na datu rav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ni klik na radn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ršini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cliping-postavljanje i uklanjanje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 box size-veličina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z obzira da li je granična kutija posltavljena ili ne, objekti su prikazani samo unutar granične kut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istom padajućem meniju moguće je postaviti (ukloniti) koordinatne ose, Oxy ravan, kao i koordinatnu mrežu u toj rav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gle Style Bar- otvara se klikom na strelicu ispod palete sa alatk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njemu je moguć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ati tip projekci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zno dimenzionirati graničnu kuti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iti pravac gled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ski rotirati sl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koordinatne o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Oxyravan i mrežu unitar 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Stylingbar graphics3D axes plane.svg"/>
          <p:cNvPicPr/>
          <p:nvPr/>
        </p:nvPicPr>
        <p:blipFill>
          <a:blip r:embed="rId1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tylingbar graphics3D axes plane.svg"/>
          <p:cNvPicPr/>
          <p:nvPr/>
        </p:nvPicPr>
        <p:blipFill>
          <a:blip r:embed="rId2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kroz tri tačke –selektujemo tri tačke koje definišu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(univerzalni alat)-selektuju se tri tačke, prava i tačka, dve prave ili poli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na ravan-selektuju se tačka i linija normalna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elna ravan-selektuju se tačka i ravan u odnosu na koju se konstruiše paralelna ravan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ode planethreepoint 32.gif"/>
          <p:cNvPicPr/>
          <p:nvPr/>
        </p:nvPicPr>
        <p:blipFill>
          <a:blip r:embed="rId1"/>
          <a:stretch/>
        </p:blipFill>
        <p:spPr>
          <a:xfrm>
            <a:off x="6588000" y="17002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ode plane.svg"/>
          <p:cNvPicPr/>
          <p:nvPr/>
        </p:nvPicPr>
        <p:blipFill>
          <a:blip r:embed="rId2"/>
          <a:stretch/>
        </p:blipFill>
        <p:spPr>
          <a:xfrm>
            <a:off x="665964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Mode orthogonalplane.svg"/>
          <p:cNvPicPr/>
          <p:nvPr/>
        </p:nvPicPr>
        <p:blipFill>
          <a:blip r:embed="rId3"/>
          <a:stretch/>
        </p:blipFill>
        <p:spPr>
          <a:xfrm>
            <a:off x="6516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ode parallelplane.svg"/>
          <p:cNvPicPr/>
          <p:nvPr/>
        </p:nvPicPr>
        <p:blipFill>
          <a:blip r:embed="rId4"/>
          <a:stretch/>
        </p:blipFill>
        <p:spPr>
          <a:xfrm>
            <a:off x="665964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tačkom na sf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poluprečnikom s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ode sphere2.svg"/>
          <p:cNvPicPr/>
          <p:nvPr/>
        </p:nvPicPr>
        <p:blipFill>
          <a:blip r:embed="rId1"/>
          <a:stretch/>
        </p:blipFill>
        <p:spPr>
          <a:xfrm>
            <a:off x="6156360" y="213372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ode spherepointradius.svg"/>
          <p:cNvPicPr/>
          <p:nvPr/>
        </p:nvPicPr>
        <p:blipFill>
          <a:blip r:embed="rId2"/>
          <a:stretch/>
        </p:blipFill>
        <p:spPr>
          <a:xfrm>
            <a:off x="6156360" y="3429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mida definisana tačkom na vrhu i poligonom koji predstavlja b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us definisan centrom i poluprečnikom osnove i tačkom na v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iramida ili kupa definisana pomoću baze i v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ode pyramid.svg"/>
          <p:cNvPicPr/>
          <p:nvPr/>
        </p:nvPicPr>
        <p:blipFill>
          <a:blip r:embed="rId1"/>
          <a:stretch/>
        </p:blipFill>
        <p:spPr>
          <a:xfrm>
            <a:off x="6300720" y="256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ode cone.svg"/>
          <p:cNvPicPr/>
          <p:nvPr/>
        </p:nvPicPr>
        <p:blipFill>
          <a:blip r:embed="rId2"/>
          <a:stretch/>
        </p:blipFill>
        <p:spPr>
          <a:xfrm>
            <a:off x="630072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ode conify.svg"/>
          <p:cNvPicPr/>
          <p:nvPr/>
        </p:nvPicPr>
        <p:blipFill>
          <a:blip r:embed="rId3"/>
          <a:stretch/>
        </p:blipFill>
        <p:spPr>
          <a:xfrm>
            <a:off x="6300720" y="5445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zma definisana donjom bazom (poligonom) i jednim temenom na gornjoj b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indar definisan centrima osnova i poluprečnikom os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rizma ili cilindar definisan osnovom i vis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de cylinder.svg"/>
          <p:cNvPicPr/>
          <p:nvPr/>
        </p:nvPicPr>
        <p:blipFill>
          <a:blip r:embed="rId1"/>
          <a:stretch/>
        </p:blipFill>
        <p:spPr>
          <a:xfrm>
            <a:off x="622764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ode prism.svg"/>
          <p:cNvPicPr/>
          <p:nvPr/>
        </p:nvPicPr>
        <p:blipFill>
          <a:blip r:embed="rId2"/>
          <a:stretch/>
        </p:blipFill>
        <p:spPr>
          <a:xfrm>
            <a:off x="615636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ode extrusion.svg"/>
          <p:cNvPicPr/>
          <p:nvPr/>
        </p:nvPicPr>
        <p:blipFill>
          <a:blip r:embed="rId3"/>
          <a:stretch/>
        </p:blipFill>
        <p:spPr>
          <a:xfrm>
            <a:off x="6227640" y="5373720"/>
            <a:ext cx="8413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traedar definisan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cka definisana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eža prizme ili pir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ode net.svg"/>
          <p:cNvPicPr/>
          <p:nvPr/>
        </p:nvPicPr>
        <p:blipFill>
          <a:blip r:embed="rId1"/>
          <a:stretch/>
        </p:blipFill>
        <p:spPr>
          <a:xfrm>
            <a:off x="6156360" y="508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ode cube.svg"/>
          <p:cNvPicPr/>
          <p:nvPr/>
        </p:nvPicPr>
        <p:blipFill>
          <a:blip r:embed="rId2"/>
          <a:stretch/>
        </p:blipFill>
        <p:spPr>
          <a:xfrm>
            <a:off x="6084720" y="350028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ode tetrahedron.svg"/>
          <p:cNvPicPr/>
          <p:nvPr/>
        </p:nvPicPr>
        <p:blipFill>
          <a:blip r:embed="rId3"/>
          <a:stretch/>
        </p:blipFill>
        <p:spPr>
          <a:xfrm>
            <a:off x="6084720" y="2133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š neki korisni a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k dveju površi-kao rezultat dobija se kriva ili p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ija u odnosi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ja 3D pros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ena prespektive gled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ode viewinfrontof.svg"/>
          <p:cNvPicPr/>
          <p:nvPr/>
        </p:nvPicPr>
        <p:blipFill>
          <a:blip r:embed="rId1"/>
          <a:stretch/>
        </p:blipFill>
        <p:spPr>
          <a:xfrm>
            <a:off x="5796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de rotateview.svg"/>
          <p:cNvPicPr/>
          <p:nvPr/>
        </p:nvPicPr>
        <p:blipFill>
          <a:blip r:embed="rId2"/>
          <a:stretch/>
        </p:blipFill>
        <p:spPr>
          <a:xfrm>
            <a:off x="6012000" y="3860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ode mirroratplane.svg"/>
          <p:cNvPicPr/>
          <p:nvPr/>
        </p:nvPicPr>
        <p:blipFill>
          <a:blip r:embed="rId3"/>
          <a:stretch/>
        </p:blipFill>
        <p:spPr>
          <a:xfrm>
            <a:off x="6012000" y="292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ode intersectioncurve.svg"/>
          <p:cNvPicPr/>
          <p:nvPr/>
        </p:nvPicPr>
        <p:blipFill>
          <a:blip r:embed="rId4"/>
          <a:stretch/>
        </p:blipFill>
        <p:spPr>
          <a:xfrm>
            <a:off x="5940360" y="206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3:14:27Z</dcterms:created>
  <dc:creator>Bogdan Pirkovic</dc:creator>
  <dc:description/>
  <dc:language>en-US</dc:language>
  <cp:lastModifiedBy>Bogdan Pirkovic</cp:lastModifiedBy>
  <dcterms:modified xsi:type="dcterms:W3CDTF">2014-12-04T15:28:58Z</dcterms:modified>
  <cp:revision>4</cp:revision>
  <dc:subject/>
  <dc:title>Geogebra 3D</dc:title>
</cp:coreProperties>
</file>